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43.png" ContentType="image/png"/>
  <Override PartName="/ppt/media/image7.png" ContentType="image/png"/>
  <Override PartName="/ppt/media/image37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218F-079D-43DF-8EDA-677FBA7597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71F-F39C-44C8-A995-A0D1F746748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DFDF-FD80-4A93-80CB-495124FCCA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4F6-F0FE-4F00-B208-2FBFE5E514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E52-3E45-4061-9FB1-07D87CFE57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9E82-A206-4CA7-BFE3-9C55AA4465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F399-BD92-4D6C-82CF-0F66BF84CC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D63-7207-4658-B56D-69B5D3EA26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E5D-103E-4ED1-8844-785B1B91F6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0223-1033-40E4-8EB1-8C42BBCF76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t may still be done at the UVAO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01CF-0AB4-484C-B69C-BAC470C4B37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F4F-6367-459A-B4CD-10A2980B0F9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is training module serves as a supplement to the existing Military VAO training available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70F-F747-4067-A24C-51C8DD5023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5DE7-74D4-4A6D-87F1-832ECC7ECB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399-7A8E-4BE4-839F-31EC59098C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47F-56D9-4A9D-9987-B4169C8A82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432-5AEB-495A-A66C-D2757A9B91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1CA-0DBB-45F1-99A8-8CDB6C6932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57EE-262E-4491-911E-8C9C0F463F7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found on EAC.go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8EB-B0EA-461C-B627-1E30A32F98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C73-2709-47EA-AED2-9923D11D5F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C765-EA2D-486E-8C28-D0DFD28645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of the information in the Military VAO training applies directly to the installation voter assistance office personnel, with two exce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ing structure: Office personnel report directly to their installation commander with the SVAO available for direction an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uties: Office personnel are only responsible for assisting those that come to the office for help, not proactively seeking out potential applic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A396-C077-45DE-9FFE-9358E53E1A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4A2-095D-4749-8A1E-9F226AB5CE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B3A-D2C7-4B98-A031-BEAEC15912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A97-06A6-4425-BB2A-207A28C43B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B38B-CF9F-40B6-A685-BC16DF8A2F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3C5-592D-4E31-8DFB-28163B2A02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08C-3B54-4C92-B557-43AF92E771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346-E409-4ACD-B0FF-6110334A2E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5D4-DD17-4875-A6F8-A1178114AF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4469-A2F5-47A5-8BFC-D8AF1C7AA7B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B9E5-C7D4-480B-B021-31BC5EACE2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36F-E927-4310-A16F-5FEE3D6BC5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4A7-065F-49AE-83D9-05CCCA16DE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page of the output provided by the online assistant gives you a postage-paid template that can be printed directly onto a No.10 business envelope for easy mailing. The form DOES NEED TO BE PRINTED and s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46E-6762-482A-9811-CC39FE6CA6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E4B-3E94-4799-83DD-879BC0BE01D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B94-A2BE-40C3-8C97-1A1EDC60BAA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9D05-3B9E-4B46-83EC-8ACB831CAC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7C64-4725-4907-8C5A-BEFE3ECE49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4CF-FC9D-47DE-8D3A-6EC109DBA9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74CB-5A70-4476-9520-F5B31E1BA1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869-79B1-49B8-96A5-06FC4A2F97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FB0-80AD-4935-A6DD-5DC8B2BF7F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additional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F717-38C7-423D-8CAF-0CB40662A29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42E8-CB0A-46A7-A746-59D6650E04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F76-890F-4546-802F-47C0185188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CFF-D6F4-47A9-91FC-71528761FF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7BA2-665B-4853-A728-4D124B91EB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25C-06D7-49EC-B2D7-56EB6443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411-7A12-4BA2-AD7A-B77CA267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F13-7B96-4779-920F-F2F59ED1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E76-C705-4A74-8924-FC516068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67D-37E9-4EB3-A5DF-3D531513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1ED-7FD2-4050-A7D9-B4BB1E51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898-A885-4007-BFC1-6801F2B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B8FF-1624-478F-B407-EEE2C2E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A71-6D8D-4CE1-A177-3F7C4298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4F4-955F-4F16-A763-95E00A9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3A1-1AD3-4CD1-BB72-FD96E33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7935-9F3A-49FD-A0D6-14227B9E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EE2-4E2B-48BF-80A2-09A5655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E2F-0ACB-47AB-B7EB-5CB6BE0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688B-C4F8-4141-9CEF-5B51400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B05-B289-4068-A425-489DD785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F6E4-FC23-4D12-843B-3A8FD485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3F79-6CAA-405B-AC1B-BD3A6F12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0F6D-F9F2-4968-9C01-51F0D011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69D5-ABAC-42AD-91A3-E8F0EAF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1818-A4F4-48ED-BE5A-AFBB655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AD7-B400-47B9-96F6-198E04B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F737-1A98-4A82-8C81-AE6BAF1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A0E3-46D9-40ED-87DB-20D2E02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D9D3-F8DC-45F6-91A1-F86C4FEF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FEBD-FD49-4920-A85F-3319828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DC02-F12D-4B5E-B2FA-D5A5F60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22F6-D08B-44DA-811E-78C8B46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6B0D-4F40-414C-A9C3-5C3F7E1E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DEFE-C00F-425A-A286-42275B8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EAF0-82DE-4FF6-87A9-A06EED74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41A4-133D-4FB8-9798-18A460C9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DE5-87B2-4CCD-9763-1898E13C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CF70-D9EA-425B-BA56-C425F09B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1087-226E-42F3-A359-C5C43941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4956-0A12-4906-B105-851F577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5102-5DBA-426A-AFBB-009E52C2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872F-9619-4705-8DDD-4F672C6D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3151-0046-4619-89BA-5812A71D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C895-CF25-4505-9DE4-00C0CAC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5310-F1AF-433D-BD62-7188920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0E9D-A1DB-40B6-B4C0-C384A1A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5DAE-F2F9-4B51-8128-0504A31A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A1B-4036-4B07-8F4F-13B3D9DD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8C5C-A398-4E31-AA1B-A016B795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DD4D-D73B-4DA6-BEE0-C96862FC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364C-BF5A-4F07-BCF4-325C8AFF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8E74-C475-44F9-B11D-F4F1570D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2866-B1E9-41AF-A8AF-D6C0E9A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6188-3533-43E5-AC6B-9D50BD9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C875-605A-4BE3-9308-A3D67CD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8487-83E1-4031-ADA7-4E7D102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B710-2F1A-41C0-9901-4A651DE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14E0-1E33-4390-B7DD-F94F55A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270-932D-4606-8582-1F40C555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E847-028B-4FF0-A40B-3E36EDD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2879-DEEB-4E06-A0A2-D036AC10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418D-C907-4588-B195-181C2739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38A-79E5-4F0A-AC7C-7A3E6A6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240-541E-4676-8B1F-9DF18DF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5A71-4BDD-4409-8803-0E09BA88B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403-71B3-4A76-96B6-B1051B423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ottmfolio.tif"/>
          <p:cNvPicPr/>
          <p:nvPr/>
        </p:nvPicPr>
        <p:blipFill>
          <a:blip r:embed="rId3"/>
          <a:stretch/>
        </p:blipFill>
        <p:spPr>
          <a:xfrm>
            <a:off x="7848720" y="5870520"/>
            <a:ext cx="103032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op1.tif"/>
          <p:cNvPicPr/>
          <p:nvPr/>
        </p:nvPicPr>
        <p:blipFill>
          <a:blip r:embed="rId4"/>
          <a:srcRect l="3000" t="13398" r="7051" b="0"/>
          <a:stretch/>
        </p:blipFill>
        <p:spPr>
          <a:xfrm>
            <a:off x="0" y="0"/>
            <a:ext cx="9144000" cy="19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VAP.gov LOGO_color opt_CHOSEN.png"/>
          <p:cNvPicPr/>
          <p:nvPr/>
        </p:nvPicPr>
        <p:blipFill>
          <a:blip r:embed="rId5"/>
          <a:stretch/>
        </p:blipFill>
        <p:spPr>
          <a:xfrm>
            <a:off x="1371600" y="682560"/>
            <a:ext cx="1679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od Logo.gif"/>
          <p:cNvPicPr/>
          <p:nvPr/>
        </p:nvPicPr>
        <p:blipFill>
          <a:blip r:embed="rId6"/>
          <a:stretch/>
        </p:blipFill>
        <p:spPr>
          <a:xfrm>
            <a:off x="609480" y="609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82296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D174-2272-475B-BDC2-079EE78876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26"/>
          <p:cNvSpPr/>
          <p:nvPr/>
        </p:nvSpPr>
        <p:spPr>
          <a:xfrm>
            <a:off x="8534520" y="6324480"/>
            <a:ext cx="36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4A2-A0D9-4E0B-A411-C95EFDBED77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1C22-17E3-4D5B-9493-E7ACC512B1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3BCC-9DF0-45F2-A29F-35660CA48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CBF0-DDFC-4AD6-93C8-7A8034ABB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466B-EC4F-4DDA-A956-994847149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5D0-BA70-42C4-9214-DB9ADC59A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349-82C9-45FD-9D20-24FB78D236A5}" type="slidenum">
              <a:rPr b="0" lang="en-US" sz="10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oswy.state.wy.us/Forms/Elections/General/vrapp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hyperlink" Target="http://www.fvap.gov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ectangle 5"/>
          <p:cNvGrpSpPr/>
          <p:nvPr/>
        </p:nvGrpSpPr>
        <p:grpSpPr>
          <a:xfrm>
            <a:off x="1017720" y="1859040"/>
            <a:ext cx="7576920" cy="2395440"/>
            <a:chOff x="1017720" y="1859040"/>
            <a:chExt cx="7576920" cy="2395440"/>
          </a:xfrm>
        </p:grpSpPr>
        <p:pic>
          <p:nvPicPr>
            <p:cNvPr id="319" name="Rectangle 5" descr=""/>
            <p:cNvPicPr/>
            <p:nvPr/>
          </p:nvPicPr>
          <p:blipFill>
            <a:blip r:embed="rId1"/>
            <a:stretch/>
          </p:blipFill>
          <p:spPr>
            <a:xfrm>
              <a:off x="1017720" y="1859040"/>
              <a:ext cx="757692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66680" y="1905120"/>
              <a:ext cx="716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62120" y="41338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nstallation Voter Assistance Office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378800" y="2133720"/>
            <a:ext cx="657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Voting Assist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V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D Issu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DI 1000.04 provides specific guidance on how the UOCAVA and NVRA will be implemented by the Servi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676520" y="2590920"/>
            <a:ext cx="5715000" cy="23079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is has two main i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The set-up of the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The responsibilities of the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3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45" name="Rectangle 3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tting up the Off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Diagram 5" descr=""/>
          <p:cNvPicPr/>
          <p:nvPr/>
        </p:nvPicPr>
        <p:blipFill>
          <a:blip r:embed="rId1"/>
          <a:stretch/>
        </p:blipFill>
        <p:spPr>
          <a:xfrm>
            <a:off x="237960" y="1401840"/>
            <a:ext cx="87346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New</a:t>
            </a:r>
            <a:r>
              <a:rPr b="0" lang="en-US" sz="44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 5" descr=""/>
          <p:cNvPicPr/>
          <p:nvPr/>
        </p:nvPicPr>
        <p:blipFill>
          <a:blip r:embed="rId1"/>
          <a:stretch/>
        </p:blipFill>
        <p:spPr>
          <a:xfrm>
            <a:off x="96840" y="1407960"/>
            <a:ext cx="88758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New</a:t>
            </a:r>
            <a:r>
              <a:rPr b="0" lang="en-US" sz="44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Diagram 5" descr=""/>
          <p:cNvPicPr/>
          <p:nvPr/>
        </p:nvPicPr>
        <p:blipFill>
          <a:blip r:embed="rId1"/>
          <a:stretch/>
        </p:blipFill>
        <p:spPr>
          <a:xfrm>
            <a:off x="122400" y="1481040"/>
            <a:ext cx="8850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Diagram 5" descr=""/>
          <p:cNvPicPr/>
          <p:nvPr/>
        </p:nvPicPr>
        <p:blipFill>
          <a:blip r:embed="rId1"/>
          <a:stretch/>
        </p:blipFill>
        <p:spPr>
          <a:xfrm>
            <a:off x="128520" y="1401840"/>
            <a:ext cx="8844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Diagram 5" descr=""/>
          <p:cNvPicPr/>
          <p:nvPr/>
        </p:nvPicPr>
        <p:blipFill>
          <a:blip r:embed="rId1"/>
          <a:stretch/>
        </p:blipFill>
        <p:spPr>
          <a:xfrm>
            <a:off x="122400" y="1407960"/>
            <a:ext cx="88502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Diagram 6" descr=""/>
          <p:cNvPicPr/>
          <p:nvPr/>
        </p:nvPicPr>
        <p:blipFill>
          <a:blip r:embed="rId1"/>
          <a:stretch/>
        </p:blipFill>
        <p:spPr>
          <a:xfrm>
            <a:off x="669960" y="1809720"/>
            <a:ext cx="7724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Processing Activit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Diagram 5" descr=""/>
          <p:cNvPicPr/>
          <p:nvPr/>
        </p:nvPicPr>
        <p:blipFill>
          <a:blip r:embed="rId1"/>
          <a:stretch/>
        </p:blipFill>
        <p:spPr>
          <a:xfrm>
            <a:off x="109440" y="1474920"/>
            <a:ext cx="886320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Written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Diagram 5" descr=""/>
          <p:cNvPicPr/>
          <p:nvPr/>
        </p:nvPicPr>
        <p:blipFill>
          <a:blip r:embed="rId1"/>
          <a:stretch/>
        </p:blipFill>
        <p:spPr>
          <a:xfrm>
            <a:off x="195120" y="1481040"/>
            <a:ext cx="8882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7720" y="2437920"/>
            <a:ext cx="769644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lcome to the 20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stallation Voter Assistance Office Train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is training provides information to help you establish and execute the required du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838080" y="2209680"/>
            <a:ext cx="7696440" cy="2210040"/>
          </a:xfrm>
          <a:prstGeom prst="rect">
            <a:avLst/>
          </a:prstGeom>
          <a:noFill/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Direct As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Diagram 5" descr=""/>
          <p:cNvPicPr/>
          <p:nvPr/>
        </p:nvPicPr>
        <p:blipFill>
          <a:blip r:embed="rId1"/>
          <a:stretch/>
        </p:blipFill>
        <p:spPr>
          <a:xfrm>
            <a:off x="109440" y="1401840"/>
            <a:ext cx="8869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Mail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Diagram 5" descr=""/>
          <p:cNvPicPr/>
          <p:nvPr/>
        </p:nvPicPr>
        <p:blipFill>
          <a:blip r:embed="rId1"/>
          <a:stretch/>
        </p:blipFill>
        <p:spPr>
          <a:xfrm>
            <a:off x="49320" y="1401840"/>
            <a:ext cx="8886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Monthly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Diagram 5" descr=""/>
          <p:cNvPicPr/>
          <p:nvPr/>
        </p:nvPicPr>
        <p:blipFill>
          <a:blip r:embed="rId1"/>
          <a:stretch/>
        </p:blipFill>
        <p:spPr>
          <a:xfrm>
            <a:off x="103320" y="1407960"/>
            <a:ext cx="88754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Additional Item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Group 18" descr=""/>
          <p:cNvPicPr/>
          <p:nvPr/>
        </p:nvPicPr>
        <p:blipFill>
          <a:blip r:embed="rId1"/>
          <a:stretch/>
        </p:blipFill>
        <p:spPr>
          <a:xfrm>
            <a:off x="201600" y="1914480"/>
            <a:ext cx="1554120" cy="3193920"/>
          </a:xfrm>
          <a:prstGeom prst="rect">
            <a:avLst/>
          </a:prstGeom>
          <a:ln w="0">
            <a:noFill/>
          </a:ln>
        </p:spPr>
      </p:pic>
      <p:pic>
        <p:nvPicPr>
          <p:cNvPr id="372" name="Group 19" descr=""/>
          <p:cNvPicPr/>
          <p:nvPr/>
        </p:nvPicPr>
        <p:blipFill>
          <a:blip r:embed="rId2"/>
          <a:stretch/>
        </p:blipFill>
        <p:spPr>
          <a:xfrm>
            <a:off x="1633680" y="1792440"/>
            <a:ext cx="73022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Diagram 3" descr=""/>
          <p:cNvPicPr/>
          <p:nvPr/>
        </p:nvPicPr>
        <p:blipFill>
          <a:blip r:embed="rId1"/>
          <a:stretch/>
        </p:blipFill>
        <p:spPr>
          <a:xfrm>
            <a:off x="669960" y="1809720"/>
            <a:ext cx="7724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 and Oper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14264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following the practical advice offered in this section you should now be able to check off all items on the office establishment and operations check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C:\Users\Reggie\Desktop\FMG\FVAP\Screen shots\Establishment Checklist.JPG"/>
          <p:cNvPicPr/>
          <p:nvPr/>
        </p:nvPicPr>
        <p:blipFill>
          <a:blip r:embed="rId1"/>
          <a:stretch/>
        </p:blipFill>
        <p:spPr>
          <a:xfrm>
            <a:off x="838080" y="2627280"/>
            <a:ext cx="2743200" cy="35449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8" name="Picture 6" descr="C:\Users\Reggie\Desktop\FMG\FVAP\Screen shots\Operations Checklist.JPG"/>
          <p:cNvPicPr/>
          <p:nvPr/>
        </p:nvPicPr>
        <p:blipFill>
          <a:blip r:embed="rId2"/>
          <a:stretch/>
        </p:blipFill>
        <p:spPr>
          <a:xfrm>
            <a:off x="5029200" y="2590920"/>
            <a:ext cx="2762280" cy="3581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Rectangle 2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80" name="Rectangle 2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tie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stering Civilian</a:t>
              </a:r>
              <a:r>
                <a:rPr b="0" lang="en-US" sz="3200" spc="-1" strike="noStrike">
                  <a:solidFill>
                    <a:srgbClr val="9bbb59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ot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Civilian V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1890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ional Voter Registration Act established a standardized form (NVRF) to register voters across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form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civilians not covered by UOCAVA.  All military members and their families, as well as any overseas citizens should use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Civilian V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VRF allows citizen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 to vote in their State of legal res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 change of name to their voter registr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 change of residence to their voter registr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 with a political party (in some st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e has different information requirements for th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 Some States require SSN for identification while others ask for driver’s licens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8068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On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voter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y a US citiz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they be 18 or older by the ele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gative response to either question means they are not e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143000" y="3905280"/>
            <a:ext cx="6505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ffic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35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allation voter assistance office has responsibility for the following voting related activities at the install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voting</a:t>
            </a: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ance to all military members and their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voter registration assistance to civilians</a:t>
            </a:r>
            <a:r>
              <a:rPr b="0" lang="en-US" sz="24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have access to and visit the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ng and reporting of voting activity met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48068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w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 in persona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63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8763120" cy="33339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129492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w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 in persona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2"/>
          <p:cNvSpPr/>
          <p:nvPr/>
        </p:nvSpPr>
        <p:spPr>
          <a:xfrm>
            <a:off x="533520" y="1752480"/>
            <a:ext cx="2590560" cy="129564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7621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necessary to vote in pri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own Arrow 8"/>
          <p:cNvSpPr/>
          <p:nvPr/>
        </p:nvSpPr>
        <p:spPr>
          <a:xfrm>
            <a:off x="1709640" y="3048120"/>
            <a:ext cx="76320" cy="213336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3166920" y="2003400"/>
            <a:ext cx="2590920" cy="129528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own Arrow 10"/>
          <p:cNvSpPr/>
          <p:nvPr/>
        </p:nvSpPr>
        <p:spPr>
          <a:xfrm>
            <a:off x="4419720" y="3352680"/>
            <a:ext cx="75960" cy="1828800"/>
          </a:xfrm>
          <a:prstGeom prst="downArrow">
            <a:avLst>
              <a:gd name="adj1" fmla="val 50000"/>
              <a:gd name="adj2" fmla="val 50158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Down Arrow 11"/>
          <p:cNvSpPr/>
          <p:nvPr/>
        </p:nvSpPr>
        <p:spPr>
          <a:xfrm flipH="1">
            <a:off x="7315200" y="3124080"/>
            <a:ext cx="76320" cy="1371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352680" y="23176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equired by ever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943600" y="1676520"/>
            <a:ext cx="2743200" cy="144756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6140520" y="2057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States have different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40508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hre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 and date th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63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480" y="13287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Four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l with any special circumstan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name since last regi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1514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152280" y="5019840"/>
            <a:ext cx="88394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21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 circumstances continu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nt unable to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2133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152280" y="4952880"/>
            <a:ext cx="8839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457200" y="1981080"/>
            <a:ext cx="784872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2120" y="140508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Fiv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ddress and mail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731960" y="2057400"/>
            <a:ext cx="6248520" cy="2819520"/>
          </a:xfrm>
          <a:prstGeom prst="rect">
            <a:avLst/>
          </a:prstGeom>
          <a:ln w="0">
            <a:noFill/>
          </a:ln>
        </p:spPr>
      </p:pic>
      <p:sp>
        <p:nvSpPr>
          <p:cNvPr id="420" name="Down Arrow 7"/>
          <p:cNvSpPr/>
          <p:nvPr/>
        </p:nvSpPr>
        <p:spPr>
          <a:xfrm rot="10800000">
            <a:off x="7576920" y="2666520"/>
            <a:ext cx="75960" cy="129564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6324480" y="3962520"/>
            <a:ext cx="2590920" cy="129528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6553080" y="4267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the form requires po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2438280" y="4952880"/>
            <a:ext cx="2590920" cy="11430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2666880" y="51055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can be found in the NVRF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11"/>
          <p:cNvSpPr/>
          <p:nvPr/>
        </p:nvSpPr>
        <p:spPr>
          <a:xfrm rot="10800000">
            <a:off x="3657600" y="4648320"/>
            <a:ext cx="7632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914400" y="2187720"/>
            <a:ext cx="7772400" cy="3200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nal Consider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218960"/>
            <a:ext cx="83059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have specific conditions regarding the NVRF of which you should be aware. 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yomi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es not allow the use of the NVRF.  Wyoming applicants must use that State’s form available on thei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State voting web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register by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h Dakot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ters are not required to register, so there is no need to fill out an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gini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a full Social Security Number, as do some oth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990720" y="5562720"/>
            <a:ext cx="7315200" cy="459720"/>
          </a:xfrm>
          <a:prstGeom prst="rect">
            <a:avLst/>
          </a:prstGeom>
          <a:solidFill>
            <a:srgbClr val="f2f2f2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ECK ST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Rectangle 3"/>
          <p:cNvGrpSpPr/>
          <p:nvPr/>
        </p:nvGrpSpPr>
        <p:grpSpPr>
          <a:xfrm>
            <a:off x="920880" y="2389320"/>
            <a:ext cx="7881840" cy="2322360"/>
            <a:chOff x="920880" y="2389320"/>
            <a:chExt cx="7881840" cy="2322360"/>
          </a:xfrm>
        </p:grpSpPr>
        <p:pic>
          <p:nvPicPr>
            <p:cNvPr id="431" name="Rectangle 3" descr=""/>
            <p:cNvPicPr/>
            <p:nvPr/>
          </p:nvPicPr>
          <p:blipFill>
            <a:blip r:embed="rId1"/>
            <a:stretch/>
          </p:blipFill>
          <p:spPr>
            <a:xfrm>
              <a:off x="920880" y="2389320"/>
              <a:ext cx="788184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Online Assistant &amp; The Handbook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PCA online as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es and simplifies the process of completing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allation Voter Assistance Office Handb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useful reference guide to supplement this training.  It provides additional detail and suggestions for implementation as well as useful tools li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decision tree to help you pick the cor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ice set-up check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ity Folder check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Reference Guides for the FPCA, FWAB, and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PCA online assistant, available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is a useful tool for assisting UOCAVA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82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verview of Office Training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training reviews the requirements and duties of the installation voter assistance office. The topics to be covered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idance: The MOVE Act, NVRA, and DoD Issu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: Setting up the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ties: Registering Civilian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: The Online Assistant &amp; The Handbo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 offers point-and-click assistance in correctly filling out the FPCA and results in a printable form that eliminates any legibility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39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2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 also provides delivery information regardless of whether the applicant wishes to send the form electronically or through the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486400" y="2743200"/>
            <a:ext cx="311148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666880" cy="40291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6" name="Down Arrow 14"/>
          <p:cNvSpPr/>
          <p:nvPr/>
        </p:nvSpPr>
        <p:spPr>
          <a:xfrm flipH="1" rot="15900000">
            <a:off x="5406840" y="3780000"/>
            <a:ext cx="158760" cy="75240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0070c0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3505320" y="3664080"/>
            <a:ext cx="1752480" cy="9144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666880" cy="4038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ing the State information are cover sheets for both fax and email transmission of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895480" y="2590920"/>
            <a:ext cx="1752840" cy="9144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2"/>
          <p:cNvSpPr/>
          <p:nvPr/>
        </p:nvSpPr>
        <p:spPr>
          <a:xfrm>
            <a:off x="3276720" y="2765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x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3657600" y="39686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own Arrow 15"/>
          <p:cNvSpPr/>
          <p:nvPr/>
        </p:nvSpPr>
        <p:spPr>
          <a:xfrm rot="3535200">
            <a:off x="2375280" y="2920320"/>
            <a:ext cx="210960" cy="1730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17"/>
          <p:cNvGrpSpPr/>
          <p:nvPr/>
        </p:nvGrpSpPr>
        <p:grpSpPr>
          <a:xfrm>
            <a:off x="3382920" y="4754520"/>
            <a:ext cx="2560680" cy="1706760"/>
            <a:chOff x="3382920" y="4754520"/>
            <a:chExt cx="2560680" cy="1706760"/>
          </a:xfrm>
        </p:grpSpPr>
        <p:pic>
          <p:nvPicPr>
            <p:cNvPr id="456" name="Rectangle 17" descr=""/>
            <p:cNvPicPr/>
            <p:nvPr/>
          </p:nvPicPr>
          <p:blipFill>
            <a:blip r:embed="rId3"/>
            <a:stretch/>
          </p:blipFill>
          <p:spPr>
            <a:xfrm>
              <a:off x="3382920" y="4754520"/>
              <a:ext cx="256068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429000" y="4800600"/>
              <a:ext cx="2133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If cover sheets are not provided, that  State does not accept electronic sub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5"/>
          <p:cNvSpPr/>
          <p:nvPr/>
        </p:nvSpPr>
        <p:spPr>
          <a:xfrm>
            <a:off x="2286000" y="3505320"/>
            <a:ext cx="2666880" cy="167616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s provi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pleted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iling Envelope templ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Stat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457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2" name="TextBox 6"/>
          <p:cNvSpPr/>
          <p:nvPr/>
        </p:nvSpPr>
        <p:spPr>
          <a:xfrm>
            <a:off x="2743200" y="38098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ke sure the applicant signs and dates th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own Arrow 7"/>
          <p:cNvSpPr/>
          <p:nvPr/>
        </p:nvSpPr>
        <p:spPr>
          <a:xfrm rot="18000000">
            <a:off x="6026400" y="3818520"/>
            <a:ext cx="100080" cy="25369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2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nal page may include any additional information required by the State. This will only print when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2819520" y="2333520"/>
            <a:ext cx="3124080" cy="39150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Decision T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 tree makes determining the correct form to assist an applicant easy with step-by-step evaluation of critical ques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C:\Users\Reggie\Desktop\FMG\FVAP\Screen shots\Decision tree.JPG"/>
          <p:cNvPicPr/>
          <p:nvPr/>
        </p:nvPicPr>
        <p:blipFill>
          <a:blip r:embed="rId1"/>
          <a:stretch/>
        </p:blipFill>
        <p:spPr>
          <a:xfrm>
            <a:off x="2971800" y="2514600"/>
            <a:ext cx="273528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09480" y="114300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applicant does not wish to use the online assistant, or a computer is not available, you may find the FPCA Quick Reference Guid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Content Placeholder 1"/>
          <p:cNvSpPr/>
          <p:nvPr/>
        </p:nvSpPr>
        <p:spPr>
          <a:xfrm>
            <a:off x="533520" y="2332080"/>
            <a:ext cx="327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0206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Rectangle 6"/>
          <p:cNvGrpSpPr/>
          <p:nvPr/>
        </p:nvGrpSpPr>
        <p:grpSpPr>
          <a:xfrm>
            <a:off x="4906800" y="2998800"/>
            <a:ext cx="3310200" cy="2395440"/>
            <a:chOff x="4906800" y="2998800"/>
            <a:chExt cx="3310200" cy="2395440"/>
          </a:xfrm>
        </p:grpSpPr>
        <p:pic>
          <p:nvPicPr>
            <p:cNvPr id="474" name="Rectangle 6" descr=""/>
            <p:cNvPicPr/>
            <p:nvPr/>
          </p:nvPicPr>
          <p:blipFill>
            <a:blip r:embed="rId1"/>
            <a:stretch/>
          </p:blipFill>
          <p:spPr>
            <a:xfrm>
              <a:off x="4906800" y="2998800"/>
              <a:ext cx="331020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952880" y="3048120"/>
              <a:ext cx="28958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is Guide provides an overview of the process and a checklist for reviewing FPC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Users\Reggie\Desktop\FMG\FVAP\Screen shots\FPCA Quick Guide 1.JPG"/>
          <p:cNvPicPr/>
          <p:nvPr/>
        </p:nvPicPr>
        <p:blipFill>
          <a:blip r:embed="rId2"/>
          <a:stretch/>
        </p:blipFill>
        <p:spPr>
          <a:xfrm>
            <a:off x="928800" y="2438280"/>
            <a:ext cx="2881080" cy="37339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5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09480" y="12520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event that a FWAB is necessary there is a Quick Reference Guide available to assist there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Content Placeholder 1"/>
          <p:cNvSpPr/>
          <p:nvPr/>
        </p:nvSpPr>
        <p:spPr>
          <a:xfrm>
            <a:off x="533520" y="2332080"/>
            <a:ext cx="327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0206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C:\Users\Reggie\Desktop\FMG\FVAP\Screen shots\FWAB Quick Guide 1.JPG"/>
          <p:cNvPicPr/>
          <p:nvPr/>
        </p:nvPicPr>
        <p:blipFill>
          <a:blip r:embed="rId1"/>
          <a:stretch/>
        </p:blipFill>
        <p:spPr>
          <a:xfrm>
            <a:off x="838080" y="2182680"/>
            <a:ext cx="3125880" cy="406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1" name="Picture 3" descr="C:\Users\Reggie\Desktop\FMG\FVAP\Screen shots\FWAB Quick Guide.JPG"/>
          <p:cNvPicPr/>
          <p:nvPr/>
        </p:nvPicPr>
        <p:blipFill>
          <a:blip r:embed="rId2"/>
          <a:stretch/>
        </p:blipFill>
        <p:spPr>
          <a:xfrm>
            <a:off x="4876920" y="2209680"/>
            <a:ext cx="3119400" cy="4038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Quick Reference Guide for the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Rectangle 5"/>
          <p:cNvGrpSpPr/>
          <p:nvPr/>
        </p:nvGrpSpPr>
        <p:grpSpPr>
          <a:xfrm>
            <a:off x="1096920" y="2693880"/>
            <a:ext cx="3335400" cy="2395800"/>
            <a:chOff x="1096920" y="2693880"/>
            <a:chExt cx="3335400" cy="2395800"/>
          </a:xfrm>
        </p:grpSpPr>
        <p:pic>
          <p:nvPicPr>
            <p:cNvPr id="485" name="Rectangle 5" descr=""/>
            <p:cNvPicPr/>
            <p:nvPr/>
          </p:nvPicPr>
          <p:blipFill>
            <a:blip r:embed="rId1"/>
            <a:stretch/>
          </p:blipFill>
          <p:spPr>
            <a:xfrm>
              <a:off x="1096920" y="2693880"/>
              <a:ext cx="3335400" cy="23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43000" y="2743200"/>
              <a:ext cx="28954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ll of these Quick Reference Guides can be found in the Installation Voter Assistance Office Handbo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2" descr="C:\Users\Reggie\Desktop\FMG\FVAP\Screen shots\NVRF Quick Guide.JPG"/>
          <p:cNvPicPr/>
          <p:nvPr/>
        </p:nvPicPr>
        <p:blipFill>
          <a:blip r:embed="rId2"/>
          <a:stretch/>
        </p:blipFill>
        <p:spPr>
          <a:xfrm>
            <a:off x="4876920" y="1836720"/>
            <a:ext cx="3344760" cy="43354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Check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0948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available in the Handbook are checklists to ensure the completeness of the office set-up, operations and continuity f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C:\Users\Reggie\Desktop\FMG\FVAP\Screen shots\Establishment Checklist.JPG"/>
          <p:cNvPicPr/>
          <p:nvPr/>
        </p:nvPicPr>
        <p:blipFill>
          <a:blip r:embed="rId1"/>
          <a:stretch/>
        </p:blipFill>
        <p:spPr>
          <a:xfrm>
            <a:off x="380880" y="2514600"/>
            <a:ext cx="2535480" cy="3276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1" name="Picture 3" descr="C:\Users\Reggie\Desktop\FMG\FVAP\Screen shots\Operations Checklist.JPG"/>
          <p:cNvPicPr/>
          <p:nvPr/>
        </p:nvPicPr>
        <p:blipFill>
          <a:blip r:embed="rId2"/>
          <a:stretch/>
        </p:blipFill>
        <p:spPr>
          <a:xfrm>
            <a:off x="5791320" y="2432160"/>
            <a:ext cx="2590560" cy="3359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2" name="Picture 4" descr="C:\Users\Reggie\Desktop\FMG\FVAP\Screen shots\Continuity Folder Checklist small.JPG"/>
          <p:cNvPicPr/>
          <p:nvPr/>
        </p:nvPicPr>
        <p:blipFill>
          <a:blip r:embed="rId3"/>
          <a:stretch/>
        </p:blipFill>
        <p:spPr>
          <a:xfrm>
            <a:off x="2743200" y="2666880"/>
            <a:ext cx="3200400" cy="350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Diagram 4" descr=""/>
          <p:cNvPicPr/>
          <p:nvPr/>
        </p:nvPicPr>
        <p:blipFill>
          <a:blip r:embed="rId1"/>
          <a:stretch/>
        </p:blipFill>
        <p:spPr>
          <a:xfrm>
            <a:off x="1414440" y="1463760"/>
            <a:ext cx="6254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ining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gislation and changes to DoD guidance have resulted in new voter assistance responsibilities for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stallation voter assistance office must be created on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ffice has voting assistance responsibilities to civilians who have access to the office as well as military personnel and their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tools to assist with this transition are available through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Rectangle 2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33" name="Rectangle 2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gisl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MOVE Act, NVRA, and DoD Issua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litary and Overseas Voter Empowerment (MOVE) Act of 2009 aims to increase the opportunity for military personnel, their families, and overseas civilians to vote</a:t>
            </a: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VE A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States to expedite the vo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s voter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expedite the voting process, States mu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absentee ballots electronically beginning with the November 2010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may choose the type of electronic transmission adopted (email and/or f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 the applicant’s State-specific information to see which types are accep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that ballots are sent to voters at least 45 days prior to the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lways check the applicant’s State’s website because State procedures and requirements will v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 and NV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ing voter registration mea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ing installation voter assistance offices on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ating the offices as Voter Registration Agencies as defined by the National Voter Registration Act (NVRA) to assist civilian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ing the submission of voter registration information each time a voter has a change of address (e.g., changes duty st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8:01Z</dcterms:created>
  <dc:creator>griffithsb</dc:creator>
  <dc:description/>
  <dc:language>en-US</dc:language>
  <cp:lastModifiedBy>McDonnellK</cp:lastModifiedBy>
  <dcterms:modified xsi:type="dcterms:W3CDTF">2013-06-28T15:05:22Z</dcterms:modified>
  <cp:revision>604</cp:revision>
  <dc:subject/>
  <dc:title>Slide 1</dc:title>
</cp:coreProperties>
</file>